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B00-41B0-4F94-A0C5-A5270F56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677-7580-498E-AC9A-29EC308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2A342-46C3-4F2A-B0B0-1BA90A9E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19DD0-89F4-4B3E-8F6E-FC99221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D513A-229F-4061-91FC-B142846E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F074C-990B-4DA4-89A8-BD178B4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F8101-886F-4B29-A7EE-9F5224F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3C2C-DDB2-4AFC-8ACA-A8C84E8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F9544-8252-45C4-B4E5-17844A3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B564C-8517-48D2-BCC9-10A12F6E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C71F0-0C5E-4D1D-A35D-4C46FE25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10FD-A032-4AAC-BAB9-94BE4C0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5AC-0BAA-43D0-A215-E0F4AD86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996BE-D0A0-45CC-A230-D8757F15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320C2-BECD-47A9-9C06-533EECAA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AC049-C3EE-4067-A4D8-BA2CF6C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96FFC-D792-4BBE-BF46-16D5822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98187-A7FE-4F38-81B9-15965EDD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B03A0-B956-459B-9950-F0C3610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357A3-572C-4389-9A84-2184E82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42A98-F649-403B-A20F-34CCE33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F922C-8421-4E18-9EE1-10B3603D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5825E-3058-4C6E-B845-90A28C60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A3D-EADD-4E22-8A4D-D2D42D63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7CAFF-D615-43C5-8225-27FB51E0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05D4D-AB78-4FF6-B0BB-81A4D2D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BA109-DA85-40E2-AF6D-CF263C42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1CE32-D162-4273-BCE5-C6CEABC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4248A-DACE-4FBC-A307-7ADC6E6F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95EA7-1BE1-4454-A20D-6B5C897D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04F5-9977-4895-AB0B-10E26D3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AFD14-E0ED-46C5-A303-4107D6B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63097-0C0C-4F2A-9A8B-DC02C3A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C40C6-60D6-41A2-8FB8-458C841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29BC-C136-4E4F-A04F-6EF39DE4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0A80-0F28-46C2-B018-92A21740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041C-C85C-4359-818C-5D54DE83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7BB7-D543-4260-84C4-C1D2EA35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FF3DC-D8B0-4E03-83CA-86AC4D1A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B403D-4D8C-4DA9-B294-DAFA270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63EBD-6AE7-4706-8EF7-547EB838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2EDE1-0038-4E84-B410-17A5E50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0D3D-403D-4B31-BB37-20011894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4876-277F-4C33-A43C-0045ACC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5B149-C34E-41F7-8891-4722490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44D9-F93D-4C4E-8044-0A2BD30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E8E14-2F97-40C1-B668-B03E256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D498F-5222-428F-92F2-6F63537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97833-05B4-4572-A6B5-C943519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F02C4-8506-4C5B-B563-F7DCF58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4BF7D-A52F-4FA2-85F5-8309685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E6DE5-8200-4590-9FDC-F05847F7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69F98-542E-4BE1-9221-24806F4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09858-3D47-4716-9232-A7E99CC0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8B84E-62AA-4514-A39E-E2EF7F18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29B2B-3D06-4ABE-A559-676D3CD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EA57-85F5-4E49-AC04-DCE09E1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93F79-A199-46AA-B17F-DB18FB36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16344-0AAD-4D5F-AAF1-5CED774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0E5A4-9C82-4934-9B9E-7C36A4A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CAE62-6C46-4E43-90EE-A4AF3FB8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78AD9-BBA6-4C04-81E7-5A87BB4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224BB-C259-4CA1-910F-F2299490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F3F09-4548-4D8F-82BE-001DFE7A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35E6D-B612-449D-873E-7DAFD8B8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14922-46AF-4483-BCDD-96A13CA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9DF65-CBC1-4E12-A77E-4EB57865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FF4C-C6BA-47B5-A7E8-1F46A6C0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2864-3320-47E7-B04C-ACC2C5E0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10C95-64DA-48CA-A86B-24CDE40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8BCE1-8652-499A-A3BD-910DC2B7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719A3-1E8F-4F98-9394-94CD769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ADBF3-152C-40DB-9F06-CA77CB4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97AC7-FC49-45DF-A216-D330DFD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880E9-A3CD-47D0-9B8F-2243A4D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C4447-2AC9-4D32-A39F-9401E841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200B5-67CC-45D0-B8A6-8F5AAE4C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59417-222A-4849-9E48-CEC9F3B2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7C9-2412-4D5A-9715-D2660B1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D75A9-E0D6-48E7-8B58-1D0A2E4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25A38-1129-4127-AFDB-A6AD972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EAE7C-0FAC-49EC-9D06-71DA372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6D99C-E162-4C83-A5DB-DDD40F2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25B49-1FD5-4DA6-A2A1-B4FAA4AE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FB870-6083-45A0-A44A-95ACDD1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74EB7-91D7-49CB-90C0-574B814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977D2-206F-44E0-AA4B-7E5A3DF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B8F5F-D076-4401-B046-1212886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E40ED-B95F-4F24-8BD6-72E43E54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D2F-8060-47FD-A10C-A0ED489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62961-0BC4-47C2-A025-06F91BCF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96A1C-F721-4599-99BB-4F38ABCB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FEB72-1737-4CFD-8A84-25D7D62E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C5C9C-A84E-4FFB-A440-07C46B6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8EFBB-B2F3-472D-8E5C-6D5AA3D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F0EDC-89A5-4879-B963-4D6E3CA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9ECE4-4090-4228-B1E2-A27F172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09BC5-BD79-4B8E-BAC0-325F646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88039-CA3C-4C01-923C-C91E476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F1BFE-9D7E-43AE-AADF-80C43E2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8CE-8BB6-4568-B269-0470A0E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2EFE2-63A9-496F-9E3E-03550193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D54B7-B7B9-4B84-A8A9-ED826ECB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7D85E-80C1-468A-BB7C-517B273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7FE86-DF42-4E8E-957F-2028A3F8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799AB-3856-43A6-9BB2-E73AA3B8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F4964-2CDC-45D5-926C-D8A962B7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A0028-B58C-48FD-84E2-1DC6F5E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79C79-1EDF-47CB-9F50-5EA06C0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21B3C-4E41-462B-BFCA-5BB05AD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A0CF2-25F8-4622-9CFD-0BBD4B8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33D-C073-4FD9-A8D6-F2457BF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274-B28E-49F7-9AD3-C533B73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E974C-65A7-4322-9431-956F550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DEFA5-39BD-4089-867B-8621D1F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05101-AAFF-47C8-938B-914E1D35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9C33E-BA2C-4007-9435-6B80290A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16DD3-2002-4245-BA24-9B25A1E1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2DBC3-FD2F-43DB-A89B-5224262D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4DF4B-E4DF-4ECD-9601-2343BE0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971E2-984E-4007-B897-C46C1377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3515C-B26E-43D7-810D-B514A70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67128-3668-4341-ABCD-876628E6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14F9-439E-4224-9D5B-78191F0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CE456-890E-457C-9090-A14DED5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91B7F-77B0-4F35-896F-68A15AF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63866-21E2-4F0C-B144-1467908F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D4A0D-8B34-485F-9498-5619A30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2DDC0-8E69-47AF-BE95-B949179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EFD50-B9C3-40B8-937E-B91CAC3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25558-A9E0-4C84-AD80-03CE55B6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AF33D-1C2E-420C-91E8-9EF9398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F6DA2-CFC8-43CE-8227-3A5E91A7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376E7-92B9-4CF4-8167-238CD34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DE6-12A8-4B0F-8E79-16B0BA7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9806C-BB1F-4C9A-B35B-6EFBA9E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18444-B1DD-4912-A543-884C289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CA248-2584-4348-9031-0250000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C7C28-42ED-41EF-A3C7-F952ACB0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CE76E-F503-4EA2-91F4-59470E0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4429E-0663-4F4C-8F74-710B792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EA630-A0D8-415B-97BC-2EB89B8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D3DBC-9543-48DB-99DD-83A835F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41D7B-15A9-41C7-8BA0-B74815FC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58B60-1000-429C-8E08-74F50310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ADE-81A9-4BE6-8E14-AE032C7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C85A00-B684-4952-AD06-D22EA5C6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E02CD-30DC-4236-BF98-4004B3F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C04F3-AB7F-48B8-9DA1-2E2A1E2B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B9C81-E098-4511-AB0E-9DA4719D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C782C-3FB6-458F-BDBA-F81427A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A17D4-8FFF-4346-B8AF-0444383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1F151-797A-4145-86AD-E16375F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097DE-7A16-44B5-91DF-22BADF0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D280E-A4B8-4206-836F-B24E220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2C6DD-B4BB-49F3-A7AB-EEBA8D02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1494-BCF1-44D0-A2C4-26DD4199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DA761-69E6-42A5-B419-32A939EE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7662F-9476-44AE-99A0-711346CE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E5548-7F17-45A9-B50A-8A371910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17507-3D71-48BF-8003-53956A4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FE113-C6D6-4FB6-A46C-F383EB5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E5D5D-F37D-481F-9DDF-A57B85A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446AE-2F09-43C1-9D16-464128BE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81A0C-179A-424B-B148-3283A54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665721-F3EA-4895-BB67-DFF8ACC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58327-84E0-4EBC-8237-F24B50E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D174-2DDE-48EE-9260-E3B5743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8F2F6-9E9D-4A75-A81F-6EB6237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ED5C8-59E1-4300-8DAB-2B213890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92BDC-4D8A-4886-AF1B-F220CDFF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9BB4-31CC-4F5F-910B-63EDE99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45B2-C045-4571-9AB9-F460690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2878-4FEA-4EF8-B7B9-DE634BF6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3343-26D3-4862-8D68-A467989F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D41-4BC6-4AC5-8294-9F696C2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91E8-5B44-4ED4-9586-5F57754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259A-2BAB-4ABB-A45B-F3E137F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0CAE-A6AB-4BA8-8352-85867A7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33A5-EE02-4150-B9FC-E540CBB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7F28-31B7-442D-B6C3-DA6FAA4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CBF9-FB44-48D7-9DBC-EE65B0B4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2956-230B-4390-BFD7-10F63FCD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C265-8158-4C90-B3CC-C27CA1DC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4FA8-38FC-46C7-AF85-ED1345B6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C661-87D8-4D90-BCC6-060ACD6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4AB-6058-488B-9EE6-F10080E1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B420-B9E8-4ED7-AA85-3CD8BC7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6B6D-2A44-4893-A319-2F904ECB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A2A3-1AC3-4DAF-9194-6FFAFF6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4802-E0F6-4A53-ADF7-4D485B2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72CE-C0F9-4EAB-A0A8-F4DDE98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21E7-FA49-441F-86F5-320F048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52C2-10AE-4E40-986A-6910CBAB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7912-A7CF-43F7-A47B-BB5312F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D86E-5311-4D8B-9E32-31273850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2314-9729-4D13-9E11-1EA3072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B8F-F3ED-4FD8-B2E6-3E7B1EB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8BD9-0375-4292-89D1-9007D7C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FC38-5A3D-4DDF-B1BF-DA06DA0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23CC-A19E-426F-A0BA-54D5ED77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DFEB-04D1-441F-A8CA-876FD9E5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6FC2-AADD-4BD6-A8B3-3B2FD790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7A08-270D-47CE-9EA1-BE947BA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06FF-6FA5-4F44-8E94-81005A2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1E4E-CAD7-406A-9F77-F69E0ED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536E-D633-42CE-AE16-1D0BA51F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B2755-1175-4D84-BCCD-3D2A2789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D1F-3E93-449F-A735-57396E10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0620-9D67-4BB3-B316-6B7C063D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EE52-F280-417F-93E7-6B0FC14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2D4F5-5D4F-46DB-8F89-C5F4423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678DC-AFC9-4565-98EE-A01772F5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ED16-FE67-4C90-82D7-132F6E2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3AFE-31F6-46B5-8784-D06EEB79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8479-8D1B-4E21-BE42-8EAEA71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0E870-7561-4644-B828-45AE448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5218-9C0E-4A78-8712-4034FBF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C354-3E4B-4BCB-9104-86F4822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2D7-F479-4CF8-B141-AB64E20E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EA6B-DFAE-484C-AEBA-7EB11AA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F006C-642B-4F92-BA9E-6BA888CC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6BE44-2BE4-407B-AB8D-A2A2200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4EDB-F630-4446-8CED-A520DF7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A875-2474-414B-A0FE-B234F913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39F2-5CA6-4842-BBE5-72AAE34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94538-737B-4FE7-8FE0-F8AB6FA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E062-3A7D-4230-BA14-36157D3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3B8E-A3E9-4B15-BB2A-3A93D92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33F44-B661-4109-A968-4F07C41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9BA-E819-41D3-BC6A-50DE59A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E66F7-990C-4553-9FB1-1190F4E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F1BD-D204-412D-B01F-ED74571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A59CB-1C56-4151-BD15-98BD3C2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14E4-31AF-4CC9-9BCA-58BD8918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D443-2289-40A8-BBE2-EC1D3206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263AD-D552-4FC6-B893-48E019B1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BAB8C-3A75-4219-8B74-36E2BDA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0FAB-AE69-4E82-AB68-B9935AF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5337-591B-4CD3-95CE-0929EF1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D2EE5-70B5-45E3-9857-6B68614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E19-D23B-4071-BA89-A083B64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166D-7B05-41F1-A606-02CBAC3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E7D21-9EFB-41CD-A600-5111179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1CCCB-3EA6-4213-A294-F8C8548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8C59-F6CD-4271-AD7B-B061AD6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E9BC-A250-44F5-95D2-4D1E05E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2C7DE-37AE-4781-BEE2-3DD0BB24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E779-2191-4995-A183-6761CE5A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26B02-4862-471A-93B8-2679DEAA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6A731-3A7C-42B0-BEAC-B74A2DC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DBC79-CD12-4CF7-8782-7E63296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9859-3CFE-4C79-990C-DB67F4B1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74D3-16FC-4998-AB1E-4A359EB07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058-DF5D-4D15-A975-E810DDF8C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B90-7B23-4872-B0CE-4AEF27695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14C-FD24-4423-90AF-7232D3A24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E800-86BC-4D8A-A35D-12EE89EFD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3F3-A428-4EEA-9F3E-8DDBB7DB4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4D2A-E4CC-4BA2-A82A-85241D9093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7C6-B623-41FC-929F-FD4C95DEB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245-1D80-4337-87B8-A776BB6BF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2D0-B43D-43E6-A3BC-D4DA9F9BA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533-6AC9-45C4-8D66-D9E856C0FC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194-B39D-4BF9-AB85-7995C85AD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FBB-AF57-46E6-8341-C757CDE29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2CD1-5C82-4A65-8B10-3297F0C55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27D-44B3-48B2-A6AE-EBB106764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B74-8B68-4556-8963-99A561B06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509E-91E5-46E4-BE91-F1AC51177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A6D3-9370-4544-BA2C-B14F7F9225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FB1-3025-4748-85BA-0B9F54FD4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0C3-CF31-48B9-9F23-B0BD83088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CA8-689C-4A14-A39E-D2CC63A5A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B789-4417-41A2-8234-1DB1D2C00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1B8-AC44-457C-A7B7-0B30479F8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C23-B2AF-439F-B668-48D504112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11A-8498-45DC-8068-F4B1E7F56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C278-4465-4DB0-84CF-1B8283030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7C3-A9BB-4FCC-8679-035B322D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60E-95A7-4522-A7CA-2688B2437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517-C5B8-42E4-94C6-F3A56BC8C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7A8-92DA-4175-B080-295CAEE69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5EA-3FDF-4A99-8A71-798DA95B6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44B-4E8D-4ABD-B5C8-26E457BE2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9D43-6FC3-433D-B842-3E695EAC63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EDB-A179-40ED-9681-73802B020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077D-E373-4BCD-A3AA-7F90D5F42F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C0F-4B65-44C2-8A02-FD965368D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B2FC-0E34-40BC-9E93-64EA79814C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CD9-D09D-4756-AFD9-652F8685A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C97-43C6-4988-B2FD-D8A6B06D0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57480" y="3024360"/>
            <a:ext cx="482904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515440" cy="2419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1214280" y="1246320"/>
            <a:ext cx="1285920" cy="392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571840" y="2143080"/>
            <a:ext cx="10000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14280" y="857160"/>
            <a:ext cx="8515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24000" y="885960"/>
            <a:ext cx="8496000" cy="5686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50960" y="1285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750960" y="1785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750960" y="22860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750960" y="27860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750960" y="37130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750960" y="417204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750960" y="4713120"/>
            <a:ext cx="542880" cy="430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750960" y="569124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52440" y="871560"/>
            <a:ext cx="8439120" cy="57722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50960" y="82548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750960" y="134604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262080" y="857160"/>
            <a:ext cx="8619840" cy="5838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750960" y="525456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39120" cy="5229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750960" y="10717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750960" y="25718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750960" y="441648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524800" cy="4714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714240" y="133668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05720" cy="5419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1500120" y="3643200"/>
            <a:ext cx="1500120" cy="392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4143240" y="4124160"/>
            <a:ext cx="1500480" cy="393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6072120" y="5532480"/>
            <a:ext cx="16430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3" descr=""/>
          <p:cNvPicPr/>
          <p:nvPr/>
        </p:nvPicPr>
        <p:blipFill>
          <a:blip r:embed="rId1"/>
          <a:stretch/>
        </p:blipFill>
        <p:spPr>
          <a:xfrm>
            <a:off x="309600" y="990720"/>
            <a:ext cx="8524800" cy="5581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071800" y="969840"/>
            <a:ext cx="1643040" cy="393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6111720" y="2846520"/>
            <a:ext cx="1000440" cy="393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5072040" y="3786120"/>
            <a:ext cx="128592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857160" y="519444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7450200" y="5664240"/>
            <a:ext cx="10000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5:06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